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FD3A-92D2-4077-A46C-50112C511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C3D5-398A-4833-BF4D-33666D4EE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B63B-83D5-4E9B-A6C1-755D9CB4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30B7-61AE-47B1-B132-199E8F6E1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CEB8-719C-4759-9100-CAEC3292E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235-E73F-4F7C-BFD3-FC47F8ADF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DA25-E230-4114-A3F3-3A4590B0D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9243-D942-4919-AF8C-45543E971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2A91-6915-45DE-83FC-CCFF31F42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12F3-FCB3-4A96-ABA8-0CF3C6D7F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063D-A173-4EDF-B048-DEA93A790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CE1A-EB11-441B-80B6-02489AB07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C1D52F-9A8E-4A6D-A151-8C21835A6E0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8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menos milésimas terminadas en 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menos unidades con centésimas 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9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4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2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4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4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3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2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1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– 2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3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5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– 1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– 1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2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– 4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– 3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8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17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36:35Z</dcterms:modified>
  <cp:revision>0</cp:revision>
  <dc:subject/>
  <dc:title/>
</cp:coreProperties>
</file>