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2836-EB58-42FA-9D3A-8E42F6724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F13A-12BA-4013-B0B0-26E0870D5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7941-CB14-4763-91FB-B1C3E1824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7E52-B954-4570-B50C-4442EC15E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69A2-8C80-42DD-A64B-C06FAD52A5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C982-B7F3-47CB-8179-2F542BE48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8C6F-580B-4AE6-86C1-FEC78C70C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586F-F63A-4790-A4A1-3865E42A3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4DA2-2772-413A-8BD6-BD1085322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5944-67E2-45E6-ACB4-8978CAB7E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0D67-8141-4BA8-A6CE-5EC4B4DE4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3F1B-957C-4757-87A9-C54CF5489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FEE88DE-1C9F-4FB1-B52D-ACC913005CB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5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incompletas menos centésimas incompletas (menores de 100 centésimas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incompletas menos milésimas incompletas (menores de 1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27 - 0,01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8 - 0,02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5 - 0,03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6 - 0,01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5 - 0,04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 -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5 - 0,1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7 - 0,1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9 - 0,5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2 - 0,04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 - 0,1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8 - 0,2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7 - 0,03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1 - 0,01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2 - 0,02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7 - 0,1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 - 0,1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 - 0,1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3 - 0,02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9 - 0,07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 - 0,3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2 - 0,02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2 - 0,02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3 - 0,2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4 - 0,2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3 - 0,6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4 - 0,2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 - 0,2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 - 0,2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1:44Z</dcterms:modified>
  <cp:revision>0</cp:revision>
  <dc:subject/>
  <dc:title/>
</cp:coreProperties>
</file>