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00EB-B3CF-4454-9BB7-82A9F7FD1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24D5-3E5F-41B7-A23B-AD33C390F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787F-6767-41CA-B016-575C61EC9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6FFA-14A2-4515-96D2-59BA85F8A9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31BE-0479-4D60-ADAB-FCF04FE1A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BE2A-1C18-4431-B86D-E24A6A6B7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10CC-BA1D-4851-BE46-04E67AFD4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FB58-903C-4BEB-9C5F-58DF8862A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4324-75D4-4CB7-8655-46BA9DBF3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C5E8-8180-4086-9659-190AD5209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C859-0F42-4D37-856C-2EDD0181A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37C5-C464-43BC-8E0E-02AC580F2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7CE6728-AB44-4D2B-A4B4-05D7ED970B4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5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incompletas menos centésimas incompletas (menores de 100 centésimas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incompletas menos milésimas incompletas (menores de 1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27 - 0,01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8 - 0,02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5 - 0,03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6 - 0,01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5 - 0,04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 -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5 - 0,1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7 - 0,1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9 - 0,5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2 - 0,04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 - 0,1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8 - 0,2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7 - 0,03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1 - 0,01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2 - 0,02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7 - 0,1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 - 0,1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 - 0,1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3 - 0,02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9 - 0,07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 - 0,3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2 - 0,02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2 - 0,02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3 - 0,2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4 - 0,2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3 - 0,6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4 - 0,2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 - 0,2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 - 0,2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1:44Z</dcterms:modified>
  <cp:revision>0</cp:revision>
  <dc:subject/>
  <dc:title/>
</cp:coreProperties>
</file>