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lésimas completas con milésimas incompl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19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13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25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33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35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7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21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9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7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24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48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- 0,51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41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9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8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73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49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46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9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28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27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48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55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2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34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58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33:38Z</dcterms:modified>
  <cp:revision>0</cp:revision>
  <dc:subject/>
  <dc:title/>
</cp:coreProperties>
</file>