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C6CE-450D-45A6-9C00-837B0BAF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9552-0439-4BB7-8FF2-A0952B7FC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5708-DBC4-4D5F-BB6F-73D6AA861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58CE-8E80-4BA2-8722-DCEFCFEC8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E5B6-F823-4A55-AD15-67CEDA0C0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AD9D-D346-4116-8D68-689AF3318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091B-F220-4DB2-98F9-CFDCC1E01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8564-FB4A-478C-8404-55874E830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C527-FEFA-4A7C-B9BD-731EBE08A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2761-EBF1-431F-9F05-522BABABC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67E2-54CD-46D3-AB0F-29C8A1DA2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ABC3-7A4C-42E3-8AAC-8F254F3AE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BC8F5A-5AFF-4FAB-8340-2158DA24E83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5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incompletas (menores de 100 centésimas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in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27 - 0,01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2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5 - 0,03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6 - 0,01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5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 -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 - 0,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 - 0,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 - 0,03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1 - 0,01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2 - 0,02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 - 0,1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 - 0,1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3 - 0,02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7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3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3 - 0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1:44Z</dcterms:modified>
  <cp:revision>0</cp:revision>
  <dc:subject/>
  <dc:title/>
</cp:coreProperties>
</file>