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D1B1-DC92-4B01-AACD-D35A8507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6478-EAFF-4EB6-9AAD-98AFF06EF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8819-0B60-46DE-AED7-6891F84AC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33F0-DF35-4EF0-AD0B-85B9D8449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7231-62EC-498C-8534-6200D0451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B580-F389-4058-A1AE-FCC9A18F5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44DA-DAA2-491F-993F-D9048A45A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D5DB-3CC9-4D55-9229-C6AC7CFC7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6FF5-27EB-40D0-B07A-04BCE82FD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5E81-9D96-460C-BB67-236E88C59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0042-7BDE-4700-B57E-CDC75F94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18FE-EE4F-404F-B8B5-C87ED249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8A6E6D-F721-4F4F-BC21-976C712010B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8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menos milésimas terminadas en 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menos unidades con centésimas 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9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4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2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4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3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2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– 2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3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5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1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– 1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2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4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36:35Z</dcterms:modified>
  <cp:revision>0</cp:revision>
  <dc:subject/>
  <dc:title/>
</cp:coreProperties>
</file>