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54CC-7700-4C62-8F20-0E7CD9E07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37FA-C4A3-4C20-AB8D-8130BE8CB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D1AD-E244-4038-9F9D-CBEEC0C35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8B76A-35B5-4C70-BA98-B9ABBE2105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CB8F-2AFA-45DE-A6EF-53E9F3FEFC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6852-0E55-4B3E-9483-2BFF15C17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2206-BB1A-4073-8322-CEC2FF8F2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8CEB-B63E-4BA6-BD12-44E99BC73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2426-6FFA-4DA0-B352-7B4F8EE87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F842-0A86-4E26-8B1C-C2EAD0F6C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ED70-966B-4770-8734-DCE4B5236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771E-E0E1-4E55-A42F-FA4363D7C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854D52E-6F37-456B-8D24-78145324C880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1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dos décimas, dos centésimas o dos milésimas hasta la unidad superior (hasta el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 - 0,0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 - 0,0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- 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- 0,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-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-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 - 0,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 -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 -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06 - 0,00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0,0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10 - 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0,00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10 – 0,03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0,0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8 - 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0,0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005 - 0,004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5 - 0,0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08 - 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0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4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-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 –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 –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–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 –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 –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07 - 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0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 –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 – 0,0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-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-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29T11:51:18Z</dcterms:modified>
  <cp:revision>0</cp:revision>
  <dc:subject/>
  <dc:title/>
</cp:coreProperties>
</file>