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5B61-41FF-459E-8A4F-415228713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B87B-091A-4809-B7E9-3A7E9545D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0E7F8-F066-42A6-A474-673BF894F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2FA2-8C6A-41F6-AF7F-F86EA2EA3D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93B5-E2DD-4ADD-873F-6EE7268187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6D1A-77D0-403B-874C-9E79186E9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0A8E-333B-4112-8EEC-491DBE248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AF09-763E-457E-B3F5-F4C2831DA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560"/>
            <a:ext cx="777096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86195-45FA-460C-BB1F-9D949AACA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E9B4-F7E0-487C-A9A6-319E0FB70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E920-946B-4EC1-8422-EA1192DFF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D025-5DE7-4692-8CE3-1CF73408D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0990027-3F74-4BBE-9413-D9630A7AC3B1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824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7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milésimas incompletas terminadas en 0 menos milésimas completas (menores de 1000 milési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34 - 0,4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3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85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52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5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62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3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51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5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30 - 0,1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37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3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72 - 0,1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91 - 0,5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9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28 - 0,4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29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86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8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71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7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15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29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2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75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7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270 - 0,1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36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63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99 - 0,5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9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84 - 0,4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24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39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3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38 - 0,4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3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31 - 0,6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3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42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56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9-02T16:31:55Z</dcterms:modified>
  <cp:revision>1</cp:revision>
  <dc:subject/>
  <dc:title/>
</cp:coreProperties>
</file>