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lésimas incompletas menos milésimas in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6 - 0,16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1 - 0,17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54 - 0,26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25 - 0,36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47 - 0,37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23 - 0,36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55 - 0,29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41 - 0,25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87 - 0,39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9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36 - 0,15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74 - 0,27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32 - 0,49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8- 0,53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52 - 0,45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98 - 0,18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78 - 0,11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19 - 0,72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15 - 0,42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55 - 0,46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87 - 0,23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82 - 0,23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82 - 0,29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87 - 0,49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2 - 0,22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18 - 0,43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63 - 0,33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98 - 0,58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34:56Z</dcterms:modified>
  <cp:revision>1</cp:revision>
  <dc:subject/>
  <dc:title/>
</cp:coreProperties>
</file>