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754E-88CF-4414-8A4A-277A67CC2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62ED-8475-48DF-ACF3-853C62296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6391-4DCC-46D3-820F-DBC7B7023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22F0-E24D-424B-89BC-44EEE1D502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791A-E547-45BF-8846-BB814CBFF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E75B-BF7E-4208-A408-86176008B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A4B3-CC62-47C8-B2A9-07FE98021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CB4F-4E81-4242-B353-BF81C176E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560"/>
            <a:ext cx="777096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E381-D45A-4E41-949C-88B0E1CF1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E5B5-1ED3-4040-BE27-96141FF7E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CCE3-FA21-4472-ACED-5451F7A62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08AF-6561-459B-8886-CEEBAD408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811FF37-3B7A-4C31-98AA-96494D61DDF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824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7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incompletas terminadas en 0 menos milésimas completas (menores de 10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34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85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52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62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51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3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37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72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91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28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29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86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71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7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15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29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75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7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36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63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99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84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24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39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38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31 - 0,6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42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56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31:55Z</dcterms:modified>
  <cp:revision>1</cp:revision>
  <dc:subject/>
  <dc:title/>
</cp:coreProperties>
</file>