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2506-6875-4774-8458-8AC97A3A9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41F9-9B65-4661-AB21-83491609E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B7BA-819B-40A2-90BD-922A92883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4C90-BC95-4DA0-B8FD-DF4A3975F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5FE1-6CF9-49D1-8023-67F869BB69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3424-901A-46C9-888D-B8BD088F3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EACA-3240-40D7-8179-B6C8BBE0C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CCAF-62BE-430B-8225-69E541FD9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C5EB-D67D-477C-964A-A82A62F4A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8B6E-39F1-479B-9DFB-5CC464718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2FAA-BB23-49CF-8298-A2792ECE8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700B-ED18-4AA2-AE5B-8BD6E2BE4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4BC6B94-B443-44F9-B2B0-FA3A4A91FEE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3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incompletas menos centésimas completa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milésimas incompletas menos milésimas completas (menores de 1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9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8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5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3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8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7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9 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4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8 - 0,0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4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9 - 0,0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7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5 -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2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7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4 -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1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3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4 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9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9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8 - 0,0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5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9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5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7:06Z</dcterms:modified>
  <cp:revision>0</cp:revision>
  <dc:subject/>
  <dc:title/>
</cp:coreProperties>
</file>