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28AF-A81C-497B-8501-9B0C4D2A1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BBF0-7926-4419-A3BA-C471F46CD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8DA1-7D93-4715-82A7-5B91A58CF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F8E3-6C51-4E62-801E-36796ACCB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5354-9960-461C-893B-0D61F89C88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1848-A7F1-40A9-AB7C-156675214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4862-37BB-4C3C-92F7-875A8CBCD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B38F-DE00-4A68-94B5-82CF14F34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4049-EFF2-4B26-9A1F-E46ACE632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BB23-0FB1-4BBF-AEDF-B17E434B1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4BCA-B142-4C78-940B-30A3BF28C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9B76-B3B0-466C-9D40-05387CB36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BCF93C0-FCC9-4223-9E3D-A8B9DA73A3C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4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completas menos centésimas menores de 10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completas (menores de 100) menos milésimas menores d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0 - 0,00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0 - 0,00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0 - 0,004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0 - 0,00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0 - 0,00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0 - 0,00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0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0 - 0,00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-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-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4:33Z</dcterms:modified>
  <cp:revision>0</cp:revision>
  <dc:subject/>
  <dc:title/>
</cp:coreProperties>
</file>