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1CC5-6D89-48DD-8C29-FBD8CF7AA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245A-D924-4A46-B810-042EB442F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D1EC-8E4B-42F5-89D8-58C834A27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112C-47D1-4E7D-B033-03AADB6F9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05FF-7DD5-4B00-80D3-2F49E9524C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1945-AE7C-4348-B092-797D6A867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3315-C123-4DDB-8980-50758B8C7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C944-C916-40D6-8EEC-C2093510F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5066-1811-4D7A-84AB-74ACB1CE8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6BDF-951A-4B1E-9C64-0E70A7829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7957-4E08-4696-AC51-629E7DD64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FEBC-A8B5-452F-97C3-040C3BC8B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D4416E0-BA95-452D-984D-8A61F8EEC146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2</a:t>
            </a:r>
            <a:br>
              <a:rPr sz="96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centésimas o milésimas completas (menores de 100 mil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3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0 - 0,0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30 - 0,01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5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0 - 0,04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8400" y="156960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60 - 0,05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-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80 - 0,0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91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70 - 0,02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090 - 0,06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-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29T11:49:10Z</dcterms:modified>
  <cp:revision>1</cp:revision>
  <dc:subject/>
  <dc:title/>
</cp:coreProperties>
</file>