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1BDD-B48B-487C-BDB6-2F1F8B8DF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C78A-820C-4F08-9079-DC6829F79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8DF2-6BAE-464B-9875-53609E588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6D58-04DB-498D-AF5C-8F1D59E8D3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9B94-825C-40B4-A122-D19F5B4210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B5D8-1556-4B25-86C4-42508DC5B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C078-FF31-401C-9A92-064580B8D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8B30-645C-4CB6-A1E0-6841B2B11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E616-3A01-41E4-BB96-E91037603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A421-592A-4ECD-B704-981947F6A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C1D4-2C09-4021-AF0F-AD6D6FBB2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0657-867F-479C-9E56-A3B2CFC3D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392F9C2-D026-44A9-A110-59697C766FD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2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centésimas o milésimas completas (menores de 100 milési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0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0 - 0,0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0 - 0,0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0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0 - 0,04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8400" y="156960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0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0 - 0,0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91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0 - 0,0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49:10Z</dcterms:modified>
  <cp:revision>1</cp:revision>
  <dc:subject/>
  <dc:title/>
</cp:coreProperties>
</file>