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EB90-D818-4392-80CE-1BBF356D4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8869-D837-4770-BE6E-37C781F6C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561D-2662-4904-9DB3-60A9652C5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2F9A-32F0-4751-A20B-2B01622D1A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23778-8248-4C7E-BC43-5DF5D37B0A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EFFE-C0A2-4D50-B355-F64281E56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CD54-9B9C-4BF9-80A2-292A6465D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4D4D-C86E-4777-B6DF-FCF5F0B51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FEFD-120D-4E29-B15E-545A3BD33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F2B0-2FB8-49AD-BF43-9874B7237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3DE5-7D38-4214-B5C2-D3A197439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819A-735A-4A03-B4E9-DC5586B17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B3BFE48-FA31-485B-8BD0-515E56EFAC09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3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centésimas incompletas menos centésimas completas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milésimas incompletas menos milésimas completas (menores de 100 milési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2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9 -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8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75 - 0,0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3 - 0,02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8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37 - 0,02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9 - 0,03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74 - 0,0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8 - 0,04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4 - 0,0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39 - 0,01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87- 0,03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6 - 0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5 - 0,5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2 - 0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7 -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4 - 0,5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1 - 0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3 - 0,02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84 - 0,03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9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9 -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8 - 0,06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5 -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9 -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5 -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29T11:47:06Z</dcterms:modified>
  <cp:revision>0</cp:revision>
  <dc:subject/>
  <dc:title/>
</cp:coreProperties>
</file>