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EAEE-4445-4956-A96C-78BFE47E6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1A28-BC17-4D5D-B68B-2568AD1C2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3B6F-46E5-4DB2-B013-68DFB416D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3557-1BFB-480B-96FB-A37CC3B962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E52A-041D-4BD3-8631-524F376AD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F4FC-2243-4FF0-8A1E-2D272FFA3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935F-22C3-42AE-A8A0-EC7C8F5C3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B298-3608-4193-8979-777B6A988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A236-F4FC-43AC-B5A5-F28CC524C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080B-8AB4-4831-A8E3-D0E5640FE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51D7-B88C-4BAE-904D-611203CD8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208E-2FF4-4010-9525-11EBA5E4A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A983870-6D75-4310-9615-75EE95256DFB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6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milésimas completas (menores de 1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17920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0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8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809784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– 0,200 =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809784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– 0,6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6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04T09:54:55Z</dcterms:modified>
  <cp:revision>0</cp:revision>
  <dc:subject/>
  <dc:title/>
</cp:coreProperties>
</file>