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ilésimas con “centésimas completas” menos milésimas con “centésimas completa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idades con centésimas menos unidades con centési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60 - 0,1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30 - 0,19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50 - 0,26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20 – 3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40 – 3,8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20 - 0,31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50 – 2,7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40 – 2,6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80 – 3,9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30 – 1,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70 – 2,8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30 – 4,6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20- 5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50 – 4,6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90 – 1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52320" y="164952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70 - 0,18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10 - 0,7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10 - 0,46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50 - 0,48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80 – 2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80 – 2,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80 – 2,9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80 – 1,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20 – 4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10 – 4,6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60 - 0,32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90 - 0,54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0:52:18Z</dcterms:modified>
  <cp:revision>0</cp:revision>
  <dc:subject/>
  <dc:title/>
</cp:coreProperties>
</file>