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5AE5F-972B-48B7-B80C-6B10309D8A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A77C3-4693-4518-A1DC-C66BEB896C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F45EF-BC70-4B14-963D-DCAA11B466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28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136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28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136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5DC20-8EE8-4070-A25D-3DF8287279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B4758-1242-47E5-83CA-5E503BA440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C6EAF-1518-4E77-B317-9AEBD84F73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FCA31-0052-4608-8EE1-B42BCD2076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99547-AB80-4EAC-A8B2-420B2EEDEC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1582200"/>
            <a:ext cx="7770960" cy="53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B8F51-A222-49D6-9DB5-3FB531EDEC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8EE05-79A2-4E6E-8431-DB7E06683D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E9148-221A-4F36-ABF4-EE1382085F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A45FD-B8AB-4AD8-96A6-B82540BF2C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556120" y="4749480"/>
            <a:ext cx="546120" cy="392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s-ES" sz="13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EF09A82A-3751-4D5F-858E-9B18B7B5DEC3}" type="slidenum">
              <a:rPr b="0" lang="es-E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93788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Fase 2</a:t>
            </a:r>
            <a:br>
              <a:rPr sz="96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ombinaciones de centésimas o milésimas completas (menores de 100 milésim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3788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70 - 0,1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3788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93788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0 - 0,2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93788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93788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80 - 0,1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3788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7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70 - 0,1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90 - 0,2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7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0 - 0,1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0 - 0,1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90 - 0,03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6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70 - 0,05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2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60 - 0,01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5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90 - 0,05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4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3788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30 - 0,01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2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80 - 0,3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0 - 0,4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50 - 0,05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80 - 0,04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4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93788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0 - 0,2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98400" y="156960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60 - 0,05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1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0 - 0,4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90 - 0,2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7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80 - 0,06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2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0 - 0,1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99188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70 - 0,02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5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90 - 0,06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3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80 - 0,3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93788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0 - 0,3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93788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93788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0 - 0,3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3788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ocente </cp:lastModifiedBy>
  <dcterms:modified xsi:type="dcterms:W3CDTF">2015-08-29T11:49:10Z</dcterms:modified>
  <cp:revision>1</cp:revision>
  <dc:subject/>
  <dc:title/>
</cp:coreProperties>
</file>