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AF54-1E60-45FE-8090-7DB5C4190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87B8-11F4-4BEA-A1F3-ECEAB7E28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D6C3-2609-4931-9CE4-2984F17E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E88C-40D1-4A94-B636-722584962B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0AF0-72B8-40DC-9D15-98932D23D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26B6-63DB-460D-A17F-4CAF10286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C172-6700-4F34-B615-36EE811B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7AFA-8C76-499C-A0CE-C0F6D942B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A025-998B-4CFD-8469-08E7F8148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15DA-8A3A-4354-9604-C67D6964B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0526-EB19-4A40-BC92-DB69F9055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2617-80B6-4404-8BB4-64448C4CD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8F82F4-FFE2-478D-965B-E924427C2EE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6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milésimas completas (menores de 1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3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17920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8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500 – 0,200 =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0 - 0,1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809784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–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6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900 - 0,5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4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7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2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600 - 0,2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800 - 0,3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4T09:54:55Z</dcterms:modified>
  <cp:revision>0</cp:revision>
  <dc:subject/>
  <dc:title/>
</cp:coreProperties>
</file>