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CD6A-FEF7-4009-A8B7-887E69E5B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8EE5-4180-4117-BF08-C5B43B7A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6D7A-F981-42FF-BBD2-38B9CF2E4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7E56-83A4-40EA-A349-AFF351772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6A62-1DBA-4CDE-A75D-C2BC1DDCC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176A-B257-4623-BB10-6E467149B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A53B-23D3-473E-8324-B9D3A6ED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AC1E-C643-41A0-8DCA-4FDE29C86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25EB-3A05-4FED-BB1E-180CD2044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31C6-159B-4859-999A-26C3477B1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7EDB-C388-479F-9572-C11BB95FA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B667-3F4A-4E8D-B700-C8BD26C9C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832820-2EBB-45BD-A96F-44967898893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dos décimas, dos centésimas o dos milésimas hasta la unidad superior (hasta el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-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-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6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10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10 – 0,0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005 - 0,004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 - 0,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–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–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7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–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51:18Z</dcterms:modified>
  <cp:revision>0</cp:revision>
  <dc:subject/>
  <dc:title/>
</cp:coreProperties>
</file>