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1F32-A261-4A6A-84FB-3B3BF5A85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969E-0349-4D67-BA28-94DC4D877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ED49-06C0-4F61-9605-3B0A74C96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DE19-13B7-4660-8565-37E7132FE3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6D5E-6C31-4F29-87CC-1517592102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36B1-FD0E-4E1B-B1AF-D03FB7F5A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F3DF-BE19-4238-97CC-DDBF52A42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E03D-E9C8-4C77-A3EB-98F78D02C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52DD-1E47-48C6-A814-2A5965B6B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3372-1890-44B6-A91B-6DC4DBED1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3057-F548-460E-972B-4A09C7F85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128B-2D3A-4BBF-ABE4-C2C3643B9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D662D2F-9372-4EF0-91DC-A2F17D9E6FE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8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completas menos milésimas terminadas en 0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idades menos unidades con centésimas compl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4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8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39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3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4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1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2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00 - 0,1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4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48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3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27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- 0,1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1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3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– 2,9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00 - 0,1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– 3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– 3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– 5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– 1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– 1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– 2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– 4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– 3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18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00 - 0,17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36:35Z</dcterms:modified>
  <cp:revision>0</cp:revision>
  <dc:subject/>
  <dc:title/>
</cp:coreProperties>
</file>