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12FF-0E11-4048-BC4A-48068D09B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4BFA-E8C7-4F50-A7E9-B70917C9B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3726-36A1-4120-9B20-A3E1BC8D1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0A31-75FE-4C97-A8A4-EE7C0D7BDA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A99D-4EF6-4EA2-8F5B-B241C1406F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1091-199A-4AFC-BFA5-A49B1B25B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39B2-0319-4EB4-BA36-D1F6317C9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FE39-ACAC-4D3A-8459-E71EBCB14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016C-8BA8-41C5-B844-10A840A1A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C667-52E3-4E1B-A26C-3D4E5FE08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2A8D-D3D6-4F8B-907D-A88B47072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1D81-DE9B-4D61-8909-D892D7E76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CFF71B3-08C0-4F07-A0D7-72D0249A6D3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3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incompletas menos centésimas completa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incompletas menos milésimas completas (menores de 1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8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5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3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8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7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9 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4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8 - 0,0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4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9 - 0,0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7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5 -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2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7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4 -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1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3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4 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9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9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8 - 0,0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5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5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7:06Z</dcterms:modified>
  <cp:revision>0</cp:revision>
  <dc:subject/>
  <dc:title/>
</cp:coreProperties>
</file>