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6F81-4B89-47E7-B639-5E8FB7700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DA08-BE65-464E-A407-C77A3D878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53F9-B2EE-40C0-8075-446C1B4DC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E4C4-7A40-454A-ABB3-998081906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83CE-0A2A-49F3-B000-50B5C73EC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216C-C45E-4AE1-AF65-900F23C19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DA56-E235-4A32-82AB-371632543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A9A3-7BAF-443C-884F-1951E2A08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6806-08D7-4AD1-BFFB-23B0E417B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77B4-B0BF-4389-95B1-14D1E5F11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7793-ADC3-431C-86E7-CEB33E3C0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725E-9EF2-4BCA-AA0F-895754213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2AD0A86-7361-4169-8C83-4983F9AC2EC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4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completas menos centésimas menores de 10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completas (menores de 100) menos milésimas menores 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0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0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0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0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0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0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0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4:33Z</dcterms:modified>
  <cp:revision>0</cp:revision>
  <dc:subject/>
  <dc:title/>
</cp:coreProperties>
</file>