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1A56-882B-4DC9-B5D8-E67695347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5510-DD3F-4AC5-A52A-A23F76F47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832A-88A0-44C3-9947-55C8A0F5B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73CE-9C66-4A3F-9FF6-B23CBFDD1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6B98-C85E-4439-BDCA-E5AFC06A7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6428-219F-482E-8D31-8DA272C57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63BD-31B1-4E7D-A1C0-161792FEB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DD9C-DFE7-4A7D-B042-EFF5C799C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F62A-32FA-414D-92FF-67A07A1DB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9823-1AFA-4727-9AE5-E2C221A9F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2B5B-4164-47E9-B026-D9926F4B9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E488-FAE3-4DCE-A5E0-2653FFBB9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9D9E4FA-1286-433A-98C7-AE3E4B16134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1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dos décimas, dos centésimas o dos milésimas hasta la unidad superior (hasta el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- 0,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-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- 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-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-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-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-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-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6 - 0,00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10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0,0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10 – 0,03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8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005 - 0,004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 - 0,0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8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-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–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–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–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–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–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7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 –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–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-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-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51:18Z</dcterms:modified>
  <cp:revision>0</cp:revision>
  <dc:subject/>
  <dc:title/>
</cp:coreProperties>
</file>