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51CD9-54DF-4EC3-B881-785B1B195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3749A-2CE3-4976-9A30-B836339C2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07F63-AFFE-48BA-9936-B00C8CB05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E1363-C511-4F50-9363-E52C1C5434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5759-6C72-482B-8C51-150FC4EF22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BCB5F-61E8-4017-A510-B712B9870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C91D5-8C18-4C99-9C85-D9A2B5077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55DEF-A00E-4A19-9907-E490221AD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9D9C8-7E50-43AE-B584-3E67F8D68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01EAE-FADB-4BD7-A209-4BF3CA421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8F630-DD05-4090-B705-09E962885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42A02-F5BA-452E-A98E-756B3F2E1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7AFCFC7-C115-444D-8E19-409DBCB3569E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4</a:t>
            </a:r>
            <a:br>
              <a:rPr sz="96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de centésimas completas menos centésimas menores de 10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de milésimas completas (menores de 100) menos milésimas menores d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0 -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 - 0,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0 - 0,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 - 0,0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0 - 0,00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 -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30 - 0,002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0 - 0,00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70 - 0,005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60 - 0,004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0 - 0,002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30 - 0,00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0 - 0,0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50 - 0,003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0 - 0,0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50 - 0,001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 - 0,0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0 - 0,0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 -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0 - 0,00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80 - 0,003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 - 0,0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 -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0 - 0,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 -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 -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 - 0,0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8-29T11:44:33Z</dcterms:modified>
  <cp:revision>0</cp:revision>
  <dc:subject/>
  <dc:title/>
</cp:coreProperties>
</file>