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E6AED-D71C-44CE-B9C9-64C62D38E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FB8C-2A6E-4B9F-AAD9-63CD83085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E5F3-B63B-4789-8D51-2CFEDD2E8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CCE8-C52A-4D69-BE4E-9F99A77148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A820-E80B-4BBA-8BE6-28FDE03B10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5F13-A975-40AC-B8AE-DA5B92C54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C6B3-E452-41C7-BAD6-8C9B17517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C2489-2D9A-43FB-B2DA-9456E0CDC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B35C-A197-4A9E-B8DD-7BF96AF9C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1E7F-8AF5-409F-97FA-C9DA188F7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0581-5E15-4ECA-8A21-57626EDFD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DF56-816A-477C-B3CC-710F9CFC1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294BF84-A90F-442E-8976-A411F193CA46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6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milésimas completas (menores de 1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17920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00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200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5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5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8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809784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00 – 0,200 =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00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00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809784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– 0,6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6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5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2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04T09:54:55Z</dcterms:modified>
  <cp:revision>0</cp:revision>
  <dc:subject/>
  <dc:title/>
</cp:coreProperties>
</file>