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F3E0-6FF9-4E48-93FA-AF92B6D53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AB56-6FDE-4582-8312-40DE7096D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A9AF-C691-4E0D-BF0B-3A0F48536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7C65-0170-4691-B5AA-D113F06882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B5DE-D801-47BE-8956-2406C2B24B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C7E0-2C7E-4104-9280-CF475B096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2BCD-C1B1-4901-A394-5FD7DC768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0265-2C05-449A-9363-80B01D8F1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560"/>
            <a:ext cx="777096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A8F5-E17A-470C-A79E-51F179CF9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664B2-85C7-4A49-A94F-77FA9E53A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8828-53C5-4C41-AD8C-5D33651EC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77AF-225E-4191-B53B-3CF23DA9A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D2A773C-69C3-4C5D-8616-56FCE479F8EC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824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7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milésimas incompletas terminadas en 0 menos milésimas completas (menores de 1000 milési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34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85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52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62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51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5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3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37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72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91 - 0,5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28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29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86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71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7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15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29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75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27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36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63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99 - 0,5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9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84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24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39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3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38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31 - 0,6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3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42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56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9-02T16:31:55Z</dcterms:modified>
  <cp:revision>1</cp:revision>
  <dc:subject/>
  <dc:title/>
</cp:coreProperties>
</file>