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144000" cy="5145088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276048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352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28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136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28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136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203120"/>
            <a:ext cx="822816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822816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5800" y="1582200"/>
            <a:ext cx="7770960" cy="536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203120"/>
            <a:ext cx="822816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352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276048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352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28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136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28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136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822816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1582200"/>
            <a:ext cx="7770960" cy="536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352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3120"/>
            <a:ext cx="822816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68000"/>
          </a:bodyPr>
          <a:p>
            <a:pPr marL="2332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33280" indent="-2332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33280" indent="-2332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33280" indent="-2332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33280" indent="-2332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33280" indent="-2332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33280" indent="-2332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203120"/>
            <a:ext cx="822816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68000"/>
          </a:bodyPr>
          <a:p>
            <a:pPr marL="2332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33280" indent="-2332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33280" indent="-2332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33280" indent="-2332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33280" indent="-2332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33280" indent="-2332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33280" indent="-2332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Fase 12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Unidades con centésimas incompletas más unidades con centésimas incomplet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5,62 + 3,50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9,1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6,13 + 3,72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9,8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7,02 + 1,37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8,3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8,23 + 3,64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11,8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9,15 + 4,53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13,6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1,42 + 1,23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1,42 + 6,45 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7,8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3,06 + 7,44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10,5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2,35 + 4,33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6,6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5,06 + 3,72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8,7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4,16 + 3,22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7,3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2,6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7,05 + 5,95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1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6,21 + 5,76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11,9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9,02 + 6,54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15,5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8,42 + 4,27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12,6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1,85 +1,12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2,9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2,21 + 1,43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3,47 + 2,22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5,6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5,14 + 4,45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9,5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7,16 + 4,34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11,5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9,25 + 7,51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16,7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2,64 + 2,32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4,9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3,6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4,32 + 2,37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6,6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6,36 + 4,24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10,6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8,51 + 3,49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3,41 + 2,22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5,6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4,22 + 2,35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6,5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ocente </cp:lastModifiedBy>
  <dcterms:modified xsi:type="dcterms:W3CDTF">2015-09-02T16:24:28Z</dcterms:modified>
  <cp:revision>1</cp:revision>
  <dc:subject/>
  <dc:title/>
</cp:coreProperties>
</file>