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</p:sldIdLst>
  <p:sldSz cx="9144000" cy="5145088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276048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352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28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136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28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136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203120"/>
            <a:ext cx="822816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822816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04480"/>
            <a:ext cx="82281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352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3120"/>
            <a:ext cx="822816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68000"/>
          </a:bodyPr>
          <a:p>
            <a:pPr marL="2332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33280" indent="-2332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33280" indent="-2332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33280" indent="-2332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33280" indent="-2332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33280" indent="-2332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33280" indent="-2332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685800" y="1433520"/>
            <a:ext cx="777096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Fase 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Verdana"/>
                <a:ea typeface="Verdana"/>
              </a:rPr>
              <a:t>Unidad completa o cantidad decimal completa más unidad decimal inferi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2 + 0,6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2,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3 + 0,8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3,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5 + 0,6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5,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1 + 0,07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1,0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4 + 0,06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70040" y="4137120"/>
            <a:ext cx="777060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770040" y="4137120"/>
            <a:ext cx="777060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4,0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685800" y="1433520"/>
            <a:ext cx="777096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1 + 0,5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70040" y="4137120"/>
            <a:ext cx="777060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3 + 0,07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3,0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5 + 0,08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770040" y="4137120"/>
            <a:ext cx="777060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5,0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6 + 0,9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70040" y="4137120"/>
            <a:ext cx="777060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6,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70040" y="4137120"/>
            <a:ext cx="777060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2 + 0,03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70040" y="4137120"/>
            <a:ext cx="777060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2,0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4 + 0,2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70040" y="4137120"/>
            <a:ext cx="777060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4,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1,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2 + 0,08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70040" y="4137120"/>
            <a:ext cx="777060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2,0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0040" y="4137120"/>
            <a:ext cx="777060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6 + 0,001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70040" y="4137120"/>
            <a:ext cx="777060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6,00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1 + 0,009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70040" y="4137120"/>
            <a:ext cx="777060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1,00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70040" y="4137120"/>
            <a:ext cx="777060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3 + 0,06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70040" y="4137120"/>
            <a:ext cx="777060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3,0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70040" y="4137120"/>
            <a:ext cx="777060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5 + 0,003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0040" y="4137120"/>
            <a:ext cx="777060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770040" y="4137120"/>
            <a:ext cx="777060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5,00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1 + 0,4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2 + 0,8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770040" y="4137120"/>
            <a:ext cx="777060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2,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7 + 0,05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70040" y="4137120"/>
            <a:ext cx="777060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770040" y="4137120"/>
            <a:ext cx="777060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7,0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8 + 0,04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70040" y="4137120"/>
            <a:ext cx="777060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770040" y="4137120"/>
            <a:ext cx="777060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8,0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9 + 0,2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70040" y="4137120"/>
            <a:ext cx="777060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9,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1 + 0,005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1,00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1,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2 + 0,7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70040" y="4137120"/>
            <a:ext cx="777060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70040" y="4137120"/>
            <a:ext cx="777060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2,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3 + 0,08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70040" y="4137120"/>
            <a:ext cx="777060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770040" y="4137120"/>
            <a:ext cx="777060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3,0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7 + 0,006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70040" y="4137120"/>
            <a:ext cx="777060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7,00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2 + 0,2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1 + 0,1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ocente </cp:lastModifiedBy>
  <dcterms:modified xsi:type="dcterms:W3CDTF">2015-08-01T16:45:15Z</dcterms:modified>
  <cp:revision>0</cp:revision>
  <dc:subject/>
  <dc:title/>
</cp:coreProperties>
</file>