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5145088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440" y="1582200"/>
            <a:ext cx="776916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68000"/>
          </a:bodyPr>
          <a:p>
            <a:pPr marL="2332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685800" y="1433520"/>
            <a:ext cx="777096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Fase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Verdana"/>
              </a:rPr>
              <a:t>Suma de décimas, centésimas o milésimas comple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0 + 0,3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0 + 0,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 + 0,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 + 0,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 + 0,0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685800" y="1433520"/>
            <a:ext cx="777096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0 + 0,3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0 + 0,7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0 + 0,7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0 + 0,6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0 + 0,7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4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0 + 0,4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0 + 0,5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0 + 0,3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0 + 0,40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3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0 + 0,3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 + 0,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70040" y="4137120"/>
            <a:ext cx="77706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 + 0,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 + 0,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0 + 0,9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6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0 + 0,2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0 + 0,3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0 + 0,8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7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0 + 0,4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 + 0,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,070 + 0,010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70040" y="4137120"/>
            <a:ext cx="77706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8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 + 0,2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0 + 0,1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cente </cp:lastModifiedBy>
  <dcterms:modified xsi:type="dcterms:W3CDTF">2015-08-01T16:45:55Z</dcterms:modified>
  <cp:revision>0</cp:revision>
  <dc:subject/>
  <dc:title/>
</cp:coreProperties>
</file>