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81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81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09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2.1.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Verdana"/>
              </a:rPr>
              <a:t>Sumas de tres cantidades decimales sin rebasar la unidad, décima o centés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4+ 0,0 + 0,5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76360" y="1936800"/>
            <a:ext cx="81691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  <a:ea typeface="Arial"/>
              </a:rPr>
              <a:t>0,03 + 0,01 + 0,04 =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3280" y="1936800"/>
            <a:ext cx="81691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0,06 + 0,02 + 0,02 =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2000" y="208116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3 + 0,02 + 0,04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5 + 0,1 + 0,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433520"/>
            <a:ext cx="77709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3 + 0,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1 + 0,2 + 0,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2 + 0,1 + 0,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7 + 0,00 + 0,0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2320" y="2664000"/>
            <a:ext cx="777096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8 + 0 + 0,0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1 + 0,4 + 0,5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 + 0,0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23960" y="2448000"/>
            <a:ext cx="32335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9 + 0 + 0,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2 + 0,2 + 0,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3 + 0,03 + 0,03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4 + 0 + 0,4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4 + 0,1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03280" y="1938240"/>
            <a:ext cx="84945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1 + 0,001 + 0,001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0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0,005 + 0 + 0,00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1040" y="273672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4 + 0,04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016000"/>
            <a:ext cx="7770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1 + 0,6 + 0,1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3 + 0,3 + 0,4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4 + 0,4 + 0,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  <a:ea typeface="Arial"/>
              </a:rPr>
              <a:t>0,02 + 0,01 + 0,07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000" y="16556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  <a:ea typeface="Arial"/>
              </a:rPr>
              <a:t>0,03 + 0 + 0,06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4137120"/>
            <a:ext cx="7770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4 + 0,3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  <a:ea typeface="Arial"/>
              </a:rPr>
              <a:t>0,2 + 0,3 + 0,2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38240"/>
            <a:ext cx="77709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8-01T16:41:54Z</dcterms:modified>
  <cp:revision>0</cp:revision>
  <dc:subject/>
  <dc:title/>
</cp:coreProperties>
</file>