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uma de décimas / centésimas incompletas más décimas / centésimas incompl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 + 0,1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 + 0,1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6 + 1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8 + 2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7 + 0,1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 +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 + 0,38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7 + 3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4 + 1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9 + 0,1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7 + 0,1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4 + 0,2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7 + 1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2 + 2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9 + 2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6 + 1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3 + 0,1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 + 0,2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9 + 1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1 + 2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6 + 3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6 + 0,7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0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4 + 0,5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7 + 2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2 + 5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4 + 1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6 + 2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01T16:47:05Z</dcterms:modified>
  <cp:revision>0</cp:revision>
  <dc:subject/>
  <dc:title/>
</cp:coreProperties>
</file>