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1582200"/>
            <a:ext cx="77691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82200"/>
            <a:ext cx="77691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5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Suma de décimas o centésimas completas más centésimas incomple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Suma de milésimas incompletas con milésimas incompletas (menores de 100 milésim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+ 0,3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 + 0,2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 + 0,2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 + 0,2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+ 0,1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0 + 0,1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+ 0,21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+ 0,3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+ 0,6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+ 0,7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0 + 0,4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+ 0,5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+ 0,3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+ 0,42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+ 0,3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+ 0,5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20 + 0,1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0 + 0,6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0 + 0,9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0 + 0,2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 + 0,3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 + 0,8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7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0,040 + 0,046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0,040 + 0,025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0040" y="4137120"/>
            <a:ext cx="77706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6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0,070 + 0,019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30 + 0,2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40 + 0,1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5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14:18Z</dcterms:modified>
  <cp:revision>1</cp:revision>
  <dc:subject/>
  <dc:title/>
</cp:coreProperties>
</file>