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514508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1582200"/>
            <a:ext cx="77709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1582200"/>
            <a:ext cx="77709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68000"/>
          </a:bodyPr>
          <a:p>
            <a:pPr marL="2332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68000"/>
          </a:bodyPr>
          <a:p>
            <a:pPr marL="2332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Fase 1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Unidades con centésimas incompletas más centésimas incomple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62 + 0,5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13 + 0,7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8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02 + 0,3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3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,23 + 0,6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,8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,15 + 0,5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,6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42 + 0,2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42 + 0,45 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8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06 + 0,4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35 + 0,3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6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06 + 0,7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7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16 + 0,2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3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6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05 + 0,9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21 + 0,7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9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,02 + 0,5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,5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,42 + 0,2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,6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85 + 0,1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9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21 + 0,4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47 + 0,2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6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14 + 0,4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5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16 + 0,3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,25 + 0,5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,7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64 + 0,3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9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6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32 + 0,3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6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36 + 0,2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6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,51 + 0,4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41 + 0,2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6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22 + 0,3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5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cente </cp:lastModifiedBy>
  <dcterms:modified xsi:type="dcterms:W3CDTF">2015-09-02T16:23:35Z</dcterms:modified>
  <cp:revision>1</cp:revision>
  <dc:subject/>
  <dc:title/>
</cp:coreProperties>
</file>