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8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s completas más décimas / centésimas completas más centésimas incompletas, o centésimas completas más milésimas incomple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5 + 0,70+0,05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6 + 0,10 + 0,0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7 + 0,40+ 0,0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4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8 + 0,90+ 0,0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9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9 + 0,30 + 0,07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0040" y="4137120"/>
            <a:ext cx="7772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1+ 0,20 + 0,0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83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+ 0,5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7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+ 0,02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0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+ 0,0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0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+ 0,02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2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+0,7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+ 0,3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+ 0,2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2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1 + 0,50 + 0,07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2 + 0,30 + 0,05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3 + 0,80 + 0,02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5 + 0,60 + 0,09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7 + 0,10 + 0,03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9 + 0,30 + 0,01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2 + 0,60 + 0,07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4 + 0,50 + 0,04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6 + 0,90 + 0,02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8 + 0,50 + 0,03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3 +0,40 + 0,0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4 + 0,20 +0,0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20:32Z</dcterms:modified>
  <cp:revision>1</cp:revision>
  <dc:subject/>
  <dc:title/>
</cp:coreProperties>
</file>