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.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Tres dígitos rebasando la unidad, décima y centésima en las dos combin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6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5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1 + 0,5 + 0,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4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6 + 0,6 + 0,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5 + 0,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7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7 + 0,0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8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9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9 + 0,09 + 0,09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8 + 0,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7 + 0,0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8 + 0,05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9 + 0,09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7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6 + 0,4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8 + 0,06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9 + 0,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6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5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9 + 0,06 + 0,09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9 + 0,5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7280" y="1938240"/>
            <a:ext cx="8494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6 + 0,005 + 0,00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0360" y="1938240"/>
            <a:ext cx="85676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7 + 0,009 + 0,00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31640" y="1938240"/>
            <a:ext cx="8352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6 + 0,008 + 0,00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1640" y="1944720"/>
            <a:ext cx="8352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8 + 0,005 + 0,00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4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1640" y="1944720"/>
            <a:ext cx="8352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8 + 0,05 + 0,0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31640" y="1944720"/>
            <a:ext cx="8352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5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3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09:00Z</dcterms:modified>
  <cp:revision>1</cp:revision>
  <dc:subject/>
  <dc:title/>
</cp:coreProperties>
</file>