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560"/>
            <a:ext cx="777096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096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uma de centésimas incompletas más centésimas (menores de 10 centésim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7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5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6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7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 +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2 + 0,08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+ 0,3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4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7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7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2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9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6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3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8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9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3 + 0,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+ 0,3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 + 7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4 + 0,8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7 + 0,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7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4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6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2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16:01Z</dcterms:modified>
  <cp:revision>1</cp:revision>
  <dc:subject/>
  <dc:title/>
</cp:coreProperties>
</file>