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mbinaciones de dos números decimales hasta la unidad, décima o centés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+ 0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+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 + 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 +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 +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58256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+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 +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 +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+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 + 0,0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+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 +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+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+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 +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 +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+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+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 +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 +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 +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+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 + 0,0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01 + 0,007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 +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0040" y="4137120"/>
            <a:ext cx="7769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+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+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6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01T16:40:31Z</dcterms:modified>
  <cp:revision>0</cp:revision>
  <dc:subject/>
  <dc:title/>
</cp:coreProperties>
</file>