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20312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2760480"/>
            <a:ext cx="264924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82200"/>
            <a:ext cx="777096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276048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203120"/>
            <a:ext cx="401508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480"/>
            <a:ext cx="8228160" cy="1422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68000"/>
          </a:bodyPr>
          <a:p>
            <a:pPr marL="2332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433520"/>
            <a:ext cx="77724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Fase 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idades con centésimas incompletas más centésimas compl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73 +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13 + 0,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7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04 +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4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32 + 0,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9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25 + 0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32 +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6 + 0,50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08 +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5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25 + 0,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8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16 + 0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8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17 +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4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25 + 0,8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31 +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8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12 + 0,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52 +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7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58 + 0,1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1,6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32 +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87 +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0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14 + 0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5,8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16 + 0,3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35 + 0,5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9,8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64 + 0,7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3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2,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52 +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9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6,89 +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7,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51 + 0,4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8,9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11 + 0,6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3,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27 + 0,20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e234"/>
            </a:gs>
            <a:gs pos="100000">
              <a:srgbClr val="4e9a0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  <a:ea typeface="Arial"/>
              </a:rPr>
              <a:t>4,4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cente </cp:lastModifiedBy>
  <dcterms:modified xsi:type="dcterms:W3CDTF">2015-09-02T16:22:46Z</dcterms:modified>
  <cp:revision>1</cp:revision>
  <dc:subject/>
  <dc:title/>
</cp:coreProperties>
</file>