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.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Verdana"/>
              </a:rPr>
              <a:t>Tres dígitos rebasando la unidad, décima o centésima en la primera combinación pero no en la úl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4 + 0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3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5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4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9 + 0,05 + 0,01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6 + 0,5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5 + 0,0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5 + 0,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5 + 0,0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9 + 0,04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6 + 0,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4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6 + 0,05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1 + 0,5 + 0,2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1 + 0,7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7 + 0,01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6 + 0,4 + 0,2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7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,06 + 0,04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7 + 0,01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7 + 0,7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1 + 0,3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5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0,07 + 0,09 + 0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1 + 0,04 + 0,0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1871640"/>
            <a:ext cx="8350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7 + 0,007 + 0,00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0360" y="1938240"/>
            <a:ext cx="8423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6 + 0,006 + 0,00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8 + 0,3 + 0,2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2081160"/>
            <a:ext cx="8350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10 + 0,005 + 0,001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9 + 0,3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04:53Z</dcterms:modified>
  <cp:revision>1</cp:revision>
  <dc:subject/>
  <dc:title/>
</cp:coreProperties>
</file>