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9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idades y centésimas más centésimas (menores de 10 centési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73 +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7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13 +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44 +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5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64 +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6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35 +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2 +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6 + 0,05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6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08 +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25 +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16 +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17 +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25 +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31 +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3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12 +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52 +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6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8 +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6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32 + 0,05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87 + 0,0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8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64 +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7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14 +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35 +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64 +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7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3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58 +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6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89 +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55 +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41 +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4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27 +0,0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9-02T16:21:52Z</dcterms:modified>
  <cp:revision>1</cp:revision>
  <dc:subject/>
  <dc:title/>
</cp:coreProperties>
</file>