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096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.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Verdana"/>
              </a:rPr>
              <a:t>Tres dígitos rebasando la unidad, décima o centésima en la última comb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74640" y="192888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4+ 0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3 + 0,1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5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4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1 + 0,05 + 0,09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09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3 + 0,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1 + 0,03 + 0,0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1 + 0,09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3 + 0,05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 + 0,02 + 0,09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6 + 0,0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5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5 + 0,05 + 0,06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4 + 0,06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3 + 0,7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5 + 0,05 + 0,07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4 + 0,6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4 + 0,06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5 + 0,5 + 0,7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1 + 0,5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4 + 0,06 + 0,06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3 + 0,07 + 0,05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4 + 0,4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76360" y="1938240"/>
            <a:ext cx="8350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2 + 0,008 + 0,00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31640" y="1938240"/>
            <a:ext cx="8494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3 + 0,007 + 0,00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433520"/>
            <a:ext cx="77709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3 + 0,06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0360" y="1938240"/>
            <a:ext cx="84945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2 + 0,004 + 0,00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2 + 0,8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2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 + 0,002 + 0,009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74640" y="192888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04+ 0 + 0,0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 + 0,2 + 0,9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01:10Z</dcterms:modified>
  <cp:revision>1</cp:revision>
  <dc:subject/>
  <dc:title/>
</cp:coreProperties>
</file>