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3C7-DF66-4946-845D-CF803836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E66-A7EF-4275-B9E5-1CC03BA7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668-3532-4B02-8530-4ABADAA7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7FA-05F3-4E0B-B52D-8CEB3D21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4E9-AE2A-448C-93E6-D08E6C2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4B0-71C8-45A5-9340-2C6F44A4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C54-183F-4E6F-8E31-CBC1663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FAB-FAA5-4060-8FDD-76CDDFA5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FA2-26F6-48B6-AD3B-F784D150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ECA-1072-462C-A881-4F473B3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4C7-735D-46F8-A536-9FA9A52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5C0-C307-43DF-AF5A-4498A73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BEE4-2DDE-42A5-8A32-0F2CA92AA64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6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31080" y="185724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2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6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8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6972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6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0980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2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14594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4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4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6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88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6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8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1280" y="185724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60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8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6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322560" y="171468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 40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21:01:57Z</dcterms:modified>
  <cp:revision>15</cp:revision>
  <dc:subject/>
  <dc:title>Cálculo mental divisiones</dc:title>
</cp:coreProperties>
</file>