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42E-AC6C-4B68-8C41-714099F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82E-48AC-458C-9566-800D7DC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043-D0AB-4B49-A16B-B5629B72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5EB-C376-4AD3-A84C-C8656012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456-BD0C-43D0-916D-D4F6B00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F2E-6F4B-4ED7-AF93-4B72320A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B3A-5668-438F-9556-B2F1CBA3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989-AC87-457A-96BB-B83370A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613-D5A4-4D15-9CCF-82D5092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4D7-64B6-499C-A8D5-5C59D8B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57D-67A5-4C2C-90CB-6E8A31B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299-F754-401C-BA42-C38ABFC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519-B5BA-4B07-B3D1-7203AA15C98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9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7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3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8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9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3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7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40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8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1:01:40Z</dcterms:modified>
  <cp:revision>17</cp:revision>
  <dc:subject/>
  <dc:title>Cálculo mental divisiones</dc:title>
</cp:coreProperties>
</file>