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090-0B84-4C15-AC02-6CB2E842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183-D66C-49A5-89EA-89FA7DD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A3B-4173-441E-8622-4826887F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24-F310-489B-8FDD-0EC9CD14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7E5-9EFC-4700-8C74-1FE595F8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45D-F656-4512-8F39-21F47D4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1A1-15E2-4942-A8FD-C96BAC1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973-59FD-45FC-A422-395D4CC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63A-3C0C-446B-875F-EEC13DDD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49D-EFFB-424E-9AF4-34AC89C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0A7-5E01-4F57-9CC2-6DF0325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A94-E8F0-4F3C-BDA7-3543938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4c8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3D79-0004-4A2B-B33F-A7729C246B6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643200"/>
          </a:xfrm>
          <a:prstGeom prst="rect">
            <a:avLst/>
          </a:prstGeom>
          <a:solidFill>
            <a:srgbClr val="7f7f7f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Cálculo mental divisiones:</a:t>
            </a:r>
            <a:br>
              <a:rPr sz="7200"/>
            </a:br>
            <a:r>
              <a:rPr b="0" lang="es-ES_tradnl" sz="7200" spc="-1" strike="noStrike">
                <a:solidFill>
                  <a:srgbClr val="ffffff"/>
                </a:solidFill>
                <a:latin typeface="Verdana"/>
                <a:ea typeface="Verdan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  <a:ea typeface="Verdana"/>
              </a:rPr>
              <a:t>repartimos entre  2,3,4,5 u 11</a:t>
            </a:r>
            <a:br>
              <a:rPr sz="7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tilización tablas extendidas  invers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Segundo nivel prim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Tutora: Mª Paz Alberola Re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Nuevo-logo-ABN-color.jpg"/>
          <p:cNvPicPr/>
          <p:nvPr/>
        </p:nvPicPr>
        <p:blipFill>
          <a:blip r:embed="rId1"/>
          <a:stretch/>
        </p:blipFill>
        <p:spPr>
          <a:xfrm>
            <a:off x="714240" y="2714760"/>
            <a:ext cx="13813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17409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1531080" y="185724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2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11023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53496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5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216972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6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29608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CuadroTexto"/>
          <p:cNvSpPr/>
          <p:nvPr/>
        </p:nvSpPr>
        <p:spPr>
          <a:xfrm>
            <a:off x="1100160" y="1785960"/>
            <a:ext cx="626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CuadroTexto"/>
          <p:cNvSpPr/>
          <p:nvPr/>
        </p:nvSpPr>
        <p:spPr>
          <a:xfrm>
            <a:off x="74520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4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CuadroTexto"/>
          <p:cNvSpPr/>
          <p:nvPr/>
        </p:nvSpPr>
        <p:spPr>
          <a:xfrm>
            <a:off x="88380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6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CuadroTexto"/>
          <p:cNvSpPr/>
          <p:nvPr/>
        </p:nvSpPr>
        <p:spPr>
          <a:xfrm>
            <a:off x="88812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27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CuadroTexto"/>
          <p:cNvSpPr/>
          <p:nvPr/>
        </p:nvSpPr>
        <p:spPr>
          <a:xfrm>
            <a:off x="534960" y="1785960"/>
            <a:ext cx="7764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7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50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74520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2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1526760" y="178596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8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0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1280" y="1857240"/>
            <a:ext cx="819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20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480 : 4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CuadroTexto"/>
          <p:cNvSpPr/>
          <p:nvPr/>
        </p:nvSpPr>
        <p:spPr>
          <a:xfrm>
            <a:off x="41040" y="1714680"/>
            <a:ext cx="916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 100 : 11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2086200" y="171468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2153160" y="178596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CuadroTexto"/>
          <p:cNvSpPr/>
          <p:nvPr/>
        </p:nvSpPr>
        <p:spPr>
          <a:xfrm>
            <a:off x="1388160" y="171468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5 : 5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081880" y="1714680"/>
            <a:ext cx="211320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312560" y="1714680"/>
            <a:ext cx="583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5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2148840" y="1785960"/>
            <a:ext cx="114696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1031040" y="1785960"/>
            <a:ext cx="679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300 : 3 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2157480" y="1785960"/>
            <a:ext cx="307944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14:17:41Z</dcterms:created>
  <dc:creator>Mami</dc:creator>
  <dc:description/>
  <dc:language>en-US</dc:language>
  <cp:lastModifiedBy>Mami</cp:lastModifiedBy>
  <dcterms:modified xsi:type="dcterms:W3CDTF">2017-05-29T14:20:31Z</dcterms:modified>
  <cp:revision>13</cp:revision>
  <dc:subject/>
  <dc:title>Cálculo mental divisiones</dc:title>
</cp:coreProperties>
</file>