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6B8-429F-4099-846B-A62CD7B4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481-24CD-4AC9-8FF3-63A85BD0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CA6-36AC-45D2-80FB-4F51731F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B3E-4302-4F45-ABF9-20E49B09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7BD-539E-4612-9FE5-B4B07097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4C9-8150-4BFF-B27A-293D9DA9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7A0-8E05-44EB-8175-44228075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E52-B7E1-4494-AD21-3C426F43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399-6A0A-4C60-AB58-E2D14698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1F9-6106-46D2-9371-0D470E5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26E-87AB-42C1-9230-04C8E53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8F0-680A-4E81-A217-ED08C28D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B70-07E2-4A6A-93E3-14D9B71EDED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17409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1531080" y="185724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6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216972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0980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14594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2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4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2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2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66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6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251280" y="185724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20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6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4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8T21:01:07Z</dcterms:modified>
  <cp:revision>13</cp:revision>
  <dc:subject/>
  <dc:title>Cálculo mental divisiones</dc:title>
</cp:coreProperties>
</file>