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233-A7F3-4047-95EE-95DAE2A4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C76-404E-4141-A3D1-2A0C59FB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B47-90F2-4C26-A5D8-8EC8F849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30C-9604-4172-AFDA-4ED8E9E2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046-5E97-49D5-88EB-9BCBFF5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F94-E628-4195-9E50-3105BC3E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D3A-02C8-44F0-971B-21366BC0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09B-E43C-48C2-9C0E-B5E19CAE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BD4-17E6-41D6-8C67-B69DA5EA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7EE-36AE-40F9-8F7D-99C854A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12D-827F-498B-BC0D-DBBD59ED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46E-345F-41F6-B777-7FF40FC7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3C7-E72E-4209-A60B-57459D78CD7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4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24960" y="1857240"/>
            <a:ext cx="540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4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73320" y="1785960"/>
            <a:ext cx="486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2173320" y="1785960"/>
            <a:ext cx="486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45548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6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384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4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4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4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6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22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6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9T15:25:07Z</dcterms:modified>
  <cp:revision>5</cp:revision>
  <dc:subject/>
  <dc:title>Cálculo mental divisiones</dc:title>
</cp:coreProperties>
</file>