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364-64E6-4D12-84CA-D20E90AB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E84-9317-4765-AFDC-747A4DE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796-888E-4068-A55C-4610CDEE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E6A-3EA2-4C14-82DB-E42B7BBE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5FD-AD48-401E-A895-EC161E7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F26-FA37-43CC-81C1-AD9BEC9E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BBC-AE32-4218-AA89-6BA4D72D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FF9-C9D7-42CB-89E8-742C0DFA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55D-079F-40F1-8741-675704F0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E89-43D4-4D6A-9E40-44B6B9B3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4FE-2008-4AA5-9B1B-F2707CF4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E84-6E14-4C2C-9216-A0CE877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9E47-8904-4056-A355-65E86B78A6F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772400" cy="392904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6,7,8,9,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571680" y="2857680"/>
            <a:ext cx="138096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81648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9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534960" y="185724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4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67356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4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5306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6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1240920" y="19288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1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67788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5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6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74520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80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2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53496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2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5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74520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20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0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7 : 7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1280" y="185724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20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41040" y="171468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200 : 1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68 : 8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5 : 9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0 : 6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9T14:42:24Z</dcterms:modified>
  <cp:revision>16</cp:revision>
  <dc:subject/>
  <dc:title>Cálculo mental divisiones</dc:title>
</cp:coreProperties>
</file>