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1C3-759D-4CEC-A20F-DACFE45B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20C-4FF9-4964-99E9-379B15A3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685-9754-484E-9596-0CA3E7A9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99F-F46D-425E-9579-3271C9C9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559-D30F-4AC9-96DD-67CFDC1F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212-8C36-401B-A06E-0145829C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9F8-7AFF-4CA1-BB56-890FDB8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45B-088A-4FB0-A07A-025F97D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1A3-AEC4-4C60-9968-80FF7723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AC7-0FAC-4C98-855C-5421177D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E3C-1E45-4993-89AD-24F11D9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634-B5EA-4D0A-B13E-1E866E09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57A-38C6-4333-BF1F-2F338389B45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17409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8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1526760" y="185724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4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216972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6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0980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14594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8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2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4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2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8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8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44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6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8T20:59:59Z</dcterms:modified>
  <cp:revision>10</cp:revision>
  <dc:subject/>
  <dc:title>Cálculo mental divisiones</dc:title>
</cp:coreProperties>
</file>